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4319280" y="457200"/>
            <a:ext cx="2282760" cy="19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Click to move the slide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8176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1"/>
          </p:nvPr>
        </p:nvSpPr>
        <p:spPr>
          <a:xfrm>
            <a:off x="2971800" y="8721720"/>
            <a:ext cx="520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BEDB-CB08-4A97-A872-0A9FB7724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6153"/>
          <p:cNvSpPr/>
          <p:nvPr/>
        </p:nvSpPr>
        <p:spPr>
          <a:xfrm>
            <a:off x="0" y="15408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microsoft.com/tech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6154"/>
          <p:cNvSpPr/>
          <p:nvPr/>
        </p:nvSpPr>
        <p:spPr>
          <a:xfrm>
            <a:off x="5460840" y="136440"/>
            <a:ext cx="13971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NT1-1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tangle 16390" descr=""/>
          <p:cNvPicPr/>
          <p:nvPr/>
        </p:nvPicPr>
        <p:blipFill>
          <a:blip r:embed="rId2"/>
          <a:stretch/>
        </p:blipFill>
        <p:spPr>
          <a:xfrm>
            <a:off x="177840" y="8721720"/>
            <a:ext cx="1727280" cy="28116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16391" descr=""/>
          <p:cNvPicPr/>
          <p:nvPr/>
        </p:nvPicPr>
        <p:blipFill>
          <a:blip r:embed="rId3"/>
          <a:stretch/>
        </p:blipFill>
        <p:spPr>
          <a:xfrm>
            <a:off x="0" y="6480"/>
            <a:ext cx="190512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hape 3"/>
          <p:cNvSpPr/>
          <p:nvPr/>
        </p:nvSpPr>
        <p:spPr>
          <a:xfrm>
            <a:off x="2971800" y="8721720"/>
            <a:ext cx="520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EFF2-CDD5-4F26-918E-EF93B6AAAE4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hape 3"/>
          <p:cNvSpPr/>
          <p:nvPr/>
        </p:nvSpPr>
        <p:spPr>
          <a:xfrm>
            <a:off x="2971800" y="8721720"/>
            <a:ext cx="520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D689-B5BC-405A-B121-39C779A58CC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97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hape 3"/>
          <p:cNvSpPr/>
          <p:nvPr/>
        </p:nvSpPr>
        <p:spPr>
          <a:xfrm>
            <a:off x="2971800" y="8721720"/>
            <a:ext cx="520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6D9A-369B-4B9B-92B8-AF23262905D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235240" y="600120"/>
            <a:ext cx="2427120" cy="1820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3920" y="2590560"/>
            <a:ext cx="6433920" cy="59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mailto:berndm@go-sky.de" TargetMode="External"/><Relationship Id="rId3" Type="http://schemas.openxmlformats.org/officeDocument/2006/relationships/hyperlink" Target="http://www.go-sky.de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5120" y="222120"/>
            <a:ext cx="83296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400" spc="-1" strike="noStrike">
                <a:solidFill>
                  <a:srgbClr val="ffdd4f"/>
                </a:solidFill>
                <a:latin typeface="Franklin Gothic Medium"/>
              </a:rPr>
              <a:t>MSDN Webcast:</a:t>
            </a:r>
            <a:r>
              <a:rPr b="1" lang="de-DE" sz="3200" spc="-1" strike="noStrike">
                <a:solidFill>
                  <a:srgbClr val="ffdd4f"/>
                </a:solidFill>
                <a:latin typeface="Franklin Gothic Medium"/>
              </a:rPr>
              <a:t> 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ffdd4f"/>
                </a:solidFill>
                <a:latin typeface="Franklin Gothic Medium"/>
              </a:rPr>
              <a:t>Einführung in das .NET-Framework (Teil 9)</a:t>
            </a:r>
            <a:br>
              <a:rPr sz="3200"/>
            </a:br>
            <a:r>
              <a:rPr b="0" lang="de-DE" sz="3200" spc="-1" strike="noStrike">
                <a:solidFill>
                  <a:srgbClr val="ffdd4f"/>
                </a:solidFill>
                <a:latin typeface="Franklin Gothic Medium"/>
              </a:rPr>
              <a:t>Was ist drin, in der Komponente? (Reflection)</a:t>
            </a:r>
            <a:br>
              <a:rPr sz="3200"/>
            </a:br>
            <a:endParaRPr b="0" lang="en-US" sz="3200" spc="-1" strike="noStrike">
              <a:solidFill>
                <a:srgbClr val="ffdd4f"/>
              </a:solidFill>
              <a:latin typeface="Franklin Gothic Medium"/>
            </a:endParaRPr>
          </a:p>
        </p:txBody>
      </p:sp>
      <p:pic>
        <p:nvPicPr>
          <p:cNvPr id="85" name="Rectangle 3073" descr=""/>
          <p:cNvPicPr/>
          <p:nvPr/>
        </p:nvPicPr>
        <p:blipFill>
          <a:blip r:embed="rId1"/>
          <a:stretch/>
        </p:blipFill>
        <p:spPr>
          <a:xfrm>
            <a:off x="6588000" y="5549760"/>
            <a:ext cx="2556000" cy="1308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3751200"/>
            <a:ext cx="78613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ceb98"/>
                </a:solidFill>
                <a:latin typeface="Franklin Gothic Book"/>
              </a:rPr>
              <a:t>Presenter: Bernd Marquardt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74c35f"/>
                </a:solidFill>
                <a:uFillTx/>
                <a:latin typeface="Franklin Gothic Book"/>
                <a:hlinkClick r:id="rId2"/>
              </a:rPr>
              <a:t>berndm@go-sky.d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74c35f"/>
                </a:solidFill>
                <a:uFillTx/>
                <a:latin typeface="Franklin Gothic Book"/>
                <a:hlinkClick r:id="rId3"/>
              </a:rPr>
              <a:t>www.go-sky.d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9840" y="3362400"/>
          <a:ext cx="1028520" cy="457200"/>
        </p:xfrm>
        <a:graphic>
          <a:graphicData uri="http://schemas.openxmlformats.org/drawingml/2006/table">
            <a:tbl>
              <a:tblPr/>
              <a:tblGrid>
                <a:gridCol w="1028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5472000" cy="6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000" spc="-1" strike="noStrike">
                <a:solidFill>
                  <a:srgbClr val="ffdd4f"/>
                </a:solidFill>
                <a:latin typeface="Franklin Gothic Medium"/>
              </a:rPr>
              <a:t>Zusammenfassung</a:t>
            </a:r>
            <a:endParaRPr b="0" lang="en-US" sz="40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0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Reflection ist ein sehr nützliche Eigenschaf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Reflection ersetzt die Typbibliotheken aus der COM-Wel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hr einfache und anschauliche Klassen im Framework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Alle Informationen einer Komponente können ermittelt werd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Klassen, Methoden, Parameter,…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Übungsaufgabe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0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Schreiben Sie ein Programm, welches ermittelt, ob zwei Klassen die gleichen Methoden enthäl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Parameter sind ega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Die nächsten Termine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04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Geht‘s auch parallel? (Multithreading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Freitag, 01.06.2007, 14:00 Uh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hteck 3" descr=""/>
          <p:cNvPicPr/>
          <p:nvPr/>
        </p:nvPicPr>
        <p:blipFill>
          <a:blip r:embed="rId1"/>
          <a:stretch/>
        </p:blipFill>
        <p:spPr>
          <a:xfrm>
            <a:off x="122400" y="2762280"/>
            <a:ext cx="9216720" cy="1187280"/>
          </a:xfrm>
          <a:prstGeom prst="rect">
            <a:avLst/>
          </a:prstGeom>
          <a:ln w="0">
            <a:noFill/>
          </a:ln>
        </p:spPr>
      </p:pic>
      <p:sp>
        <p:nvSpPr>
          <p:cNvPr id="116" name="Textfeld 4"/>
          <p:cNvSpPr/>
          <p:nvPr/>
        </p:nvSpPr>
        <p:spPr>
          <a:xfrm>
            <a:off x="6138720" y="518472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2-3 Tage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Download der Demo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143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1440" y="140976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Franklin Gothic Medium"/>
              </a:rPr>
              <a:t>Questions and Answer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5360" descr=""/>
          <p:cNvPicPr/>
          <p:nvPr/>
        </p:nvPicPr>
        <p:blipFill>
          <a:blip r:embed="rId1"/>
          <a:stretch/>
        </p:blipFill>
        <p:spPr>
          <a:xfrm>
            <a:off x="1981080" y="2870280"/>
            <a:ext cx="5181840" cy="85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000" spc="-1" strike="noStrike">
                <a:solidFill>
                  <a:srgbClr val="ffdd4f"/>
                </a:solidFill>
                <a:latin typeface="Franklin Gothic Medium"/>
              </a:rPr>
              <a:t>Agenda Reflection</a:t>
            </a:r>
            <a:endParaRPr b="0" lang="en-US" sz="40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1415880"/>
            <a:ext cx="838836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Wozu gibt es Reflection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Beispiel: Analyse von Assembli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Private Eigenschaften und Methoden aufrufen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Late Bindin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Zusammenfassun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Übungsaufgabe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Schreiben Sie ein Programm, welches viele neue Objekte (z.B. Strings) in einer Schleife erzeug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Beobachten Sie die Aktivitäten des Garbage Collectors mit dem Performance-Monitor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55240"/>
            <a:ext cx="83934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400" spc="-1" strike="noStrike">
                <a:solidFill>
                  <a:srgbClr val="ffdd4f"/>
                </a:solidFill>
                <a:latin typeface="Franklin Gothic Medium"/>
              </a:rPr>
              <a:t>Wozu braucht man Reflection?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560" y="1231560"/>
            <a:ext cx="838836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Abfrage aller Informationen über ein Assembly zur Laufzei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Nam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Typen (Klassen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Methoden, Eigenschaften,…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Parameter, Typen von Parameter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Rückgabewert, Typ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rzeugung von Objekt-Instanz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Aufruf von Method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Setzen von Eigenschaft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Eine Test-Bibliothek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inige Klass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inige Methoden (private und public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Mit Parameter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Mit Rückgabewer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Lokale Variabl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6558120" y="5310360"/>
            <a:ext cx="1590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stLib</a:t>
            </a:r>
            <a:endParaRPr b="0" lang="en-US" sz="16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400" spc="-1" strike="noStrike">
                <a:solidFill>
                  <a:srgbClr val="ffdd4f"/>
                </a:solidFill>
                <a:latin typeface="Franklin Gothic Medium"/>
              </a:rPr>
              <a:t>Analyse von Assemblies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71240"/>
            <a:ext cx="8229600" cy="30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Thread.GetDomain().GetAssemblies(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myAssemblies[i].GetName(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myAssemblies[i].GetTypes(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t.GetMethods(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mi.GetParameters(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de-DE" sz="2800" spc="-1" strike="noStrike">
                <a:solidFill>
                  <a:srgbClr val="ffffff"/>
                </a:solidFill>
                <a:latin typeface="Lucida Console"/>
              </a:rPr>
              <a:t>pi.ParameterTyp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6558120" y="5310360"/>
            <a:ext cx="125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mo1</a:t>
            </a:r>
            <a:endParaRPr b="0" lang="en-US" sz="16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400" spc="-1" strike="noStrike">
                <a:solidFill>
                  <a:srgbClr val="ffdd4f"/>
                </a:solidFill>
                <a:latin typeface="Franklin Gothic Medium"/>
              </a:rPr>
              <a:t>Aufruf von Methoden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24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Assembly.LoadFrom(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t.GetMethods(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Activator.CreateInstance(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mi.Invoke(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6276960" y="4952880"/>
            <a:ext cx="131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mo2</a:t>
            </a:r>
            <a:endParaRPr b="0" lang="en-US" sz="1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400" spc="-1" strike="noStrike">
                <a:solidFill>
                  <a:srgbClr val="ffdd4f"/>
                </a:solidFill>
                <a:latin typeface="Franklin Gothic Medium"/>
              </a:rPr>
              <a:t>Private Methoden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7124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Kann man eigentlich private Mitglieder einer Klasse aufrufen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Ja!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private, public</a:t>
            </a: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,… sind nur relevant im Quellcode…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…</a:t>
            </a: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zur Laufzeit haben diese Schlüsselworte keinen Einfluss mehr!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7000920" y="5356080"/>
            <a:ext cx="1324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mo3</a:t>
            </a:r>
            <a:endParaRPr b="0" lang="en-US" sz="1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99360"/>
            <a:ext cx="83934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Ermittlung der lok. Variablen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MethodInfo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MethodBod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Lucida Console"/>
              </a:rPr>
              <a:t>LocalVariabl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7000920" y="5356080"/>
            <a:ext cx="1324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mo4</a:t>
            </a:r>
            <a:endParaRPr b="0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6T19:29:56Z</dcterms:created>
  <dc:creator>Microsoft</dc:creator>
  <dc:description/>
  <cp:keywords>TechNet</cp:keywords>
  <dc:language>en-US</dc:language>
  <cp:lastModifiedBy>Bernd</cp:lastModifiedBy>
  <dcterms:modified xsi:type="dcterms:W3CDTF">2007-05-18T20:43:29Z</dcterms:modified>
  <cp:revision>580</cp:revision>
  <dc:subject>Qx FYxx Content</dc:subject>
  <dc:title>Sess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ategorie">
    <vt:lpwstr>Planung</vt:lpwstr>
  </property>
  <property fmtid="{D5CDD505-2E9C-101B-9397-08002B2CF9AE}" pid="3" name="Program">
    <vt:lpwstr>TechNet</vt:lpwstr>
  </property>
  <property fmtid="{D5CDD505-2E9C-101B-9397-08002B2CF9AE}" pid="4" name="Session ID">
    <vt:lpwstr>TNTx-xx</vt:lpwstr>
  </property>
  <property fmtid="{D5CDD505-2E9C-101B-9397-08002B2CF9AE}" pid="5" name="Status">
    <vt:lpwstr>Work in Progress</vt:lpwstr>
  </property>
  <property fmtid="{D5CDD505-2E9C-101B-9397-08002B2CF9AE}" pid="6" name="Support">
    <vt:lpwstr>devhelp@microsoft.com</vt:lpwstr>
  </property>
  <property fmtid="{D5CDD505-2E9C-101B-9397-08002B2CF9AE}" pid="7" name="Version">
    <vt:lpwstr>3.0</vt:lpwstr>
  </property>
  <property fmtid="{D5CDD505-2E9C-101B-9397-08002B2CF9AE}" pid="8" name="build">
    <vt:lpwstr>0</vt:lpwstr>
  </property>
</Properties>
</file>